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65E1F4-AA65-4F72-B7C2-924F678AC1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3FA6EF-7051-453A-AABB-1F1ACF9176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D6BAE7-91A7-4461-B2C9-5EBE5D6280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7548EA-C139-4AFA-AE66-8410A84BED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FD7FBA-D2A4-4BE5-8619-AC0097A839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49AD31-B987-4BBD-BDC1-5149B28EE1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40FB4C-25A8-4AAF-9D9A-A984051CA9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72009C-7648-4EB2-B810-D0D29F87E2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5C8A2C-1611-49E0-9A3A-890A8FB2DC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D9CFA-D150-4E57-955F-86D850C033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0AC78-86A8-4281-865A-465E859710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A1F0A-CCA5-43AA-97DD-63677D436E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C8905-99DE-4543-AF21-307C6DBDF0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Solitary reaper</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m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me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olitu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armony with na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Solitude</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ordsworth, in particular and romantics in general, believed in the idea that one could find the entire world by looking at just one grain of sand. One needed time by oneself away from the hustle of people for introspection and self appreciation. Romantics liken solitude to the infin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Solitude in “The Solitary Reaper”</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title itself is evidence of the theme being present in the po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words “single’, “solitary”, “by herself” and “alone” appear in the first six lines of the first stanz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Harmony with natur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romantics believed that if you loved nature then you loved human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You were able to create spiritual values out of the memory of sights and sounds present in na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Harmony with nature in “The Solitary Reaper”</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3T11:04:09Z</dcterms:created>
  <dc:creator>Goodman</dc:creator>
  <dc:description/>
  <dc:language>en-US</dc:language>
  <cp:lastModifiedBy>Goodman</cp:lastModifiedBy>
  <dcterms:modified xsi:type="dcterms:W3CDTF">2008-08-23T23:23:18Z</dcterms:modified>
  <cp:revision>3</cp:revision>
  <dc:subject/>
  <dc:title>The Solitary reaper</dc:title>
</cp:coreProperties>
</file>