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F4879-D177-4526-8DED-0257A753C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43F11-8D28-4B1B-8FD5-8280327F1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7B24B-942A-4E41-8A81-6D0D5834B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DD4B2-1C83-485C-954F-D1BF57DE3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166C1-9F45-4331-B13F-56571B9CE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CCB49-F39A-4CA3-8B90-9B0E8CBBA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5BEB8-ABE5-4BA8-B50A-7A303780B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1CB80-6532-4F78-9F3E-89652F722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BDFF8-D46C-4342-B2BD-43AEC7388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708B1-4E8B-4BA4-9901-DBCC0A249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7BEB2-650C-4F8E-AEEA-20448658C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2E411-8FCD-4061-8F0F-972BEE5C7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1E07-C340-4753-87CD-2EBCD46142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olitary reap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m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litu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armony with n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olitud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ordsworth, in particular and romantics in general, believed in the idea that one could find the entire world by looking at just one grain of sand. One needed time by oneself away from the hustle of people for introspection and self appreciation. Romantics liken solitude to the infin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olitude in “The Solitary Reaper”</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title itself is evidence of the theme being present in the po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words “single’, “solitary”, “by herself” and “alone” appear in the first six lines of the first stanz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armony with na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romantics believed that if you loved nature then you loved huma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You were able to create spiritual values out of the memory of sights and sounds present in n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armony with nature in “The Solitary Reaper”</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3T11:04:09Z</dcterms:created>
  <dc:creator>Goodman</dc:creator>
  <dc:description/>
  <dc:language>en-US</dc:language>
  <cp:lastModifiedBy>Goodman</cp:lastModifiedBy>
  <dcterms:modified xsi:type="dcterms:W3CDTF">2008-08-23T23:23:18Z</dcterms:modified>
  <cp:revision>3</cp:revision>
  <dc:subject/>
  <dc:title>The Solitary reaper</dc:title>
</cp:coreProperties>
</file>